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C25-197B-40E7-B7CD-9B9D0CB1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A4C-ED73-42F0-8CAC-F443D0A9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DFC-6C49-414E-B687-0823C34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ECD-670F-4597-A253-121F2AE4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3EF-4E1E-43FA-8098-CE908FEA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300-C4C8-4A6F-AB58-65C4E154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0AE-5BB6-4614-94A0-C35DF7E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0EC-4402-4806-9E73-5C4A02F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56A-B129-4A65-9B13-76F30E6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462-3310-4E69-BE2D-15AEE6A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9BA-64F7-436B-B71C-1083FB6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CCA-FF3F-479D-9284-1992DC0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636-FFE4-4AB4-ACA4-623B29B40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# 2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continuamos el repaso para la Prueba: Repaso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09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0" y="1752480"/>
            <a:ext cx="1762200" cy="159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8600" y="4572000"/>
            <a:ext cx="2209680" cy="151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724280" y="403848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162920" y="4724280"/>
            <a:ext cx="1614240" cy="1216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596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2600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3568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445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9760" y="6248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172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29080" cy="163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3124440" cy="238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4081320"/>
            <a:ext cx="2514600" cy="173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2600" y="2286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440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781680" y="53352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48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1840" y="579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768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un sándwich de jamón y queso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___ la televisión en la sala. 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r. Gómez _________ la comida en el mercado. (comp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en un edificio.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Draw a floor plan of your house and label al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R17-R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45:49Z</dcterms:created>
  <dc:creator>Helen Zumaeta</dc:creator>
  <dc:description/>
  <dc:language>en-US</dc:language>
  <cp:lastModifiedBy>Helen Zumaeta</cp:lastModifiedBy>
  <dcterms:modified xsi:type="dcterms:W3CDTF">2013-01-02T20:47:26Z</dcterms:modified>
  <cp:revision>2</cp:revision>
  <dc:subject/>
  <dc:title>Me llamo __________ Clase 6nh (602) La fecha es el 2 de enero del 2013</dc:title>
</cp:coreProperties>
</file>